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CD5-EE2B-444A-9A7E-C5F2D375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16B-909E-40CD-B338-12760057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BB6-0E33-4D50-AA1F-763748A5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AF9-D66F-4DB4-8472-21B7D098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0AC7-94C5-4E7D-9396-CCA9E4E4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3821-FD56-40B8-8511-FDCF9461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594A-CAD6-41B7-9D7F-A71F8FDA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872C-732D-42A0-BE9D-2A4CA8C3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0626-E4D8-4B2B-A495-72235C7F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F869-E76E-4446-99EC-1B1BA1F2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99CA-D24E-4063-9634-901B3E62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B72-90AE-4D9C-8217-04BC4281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F1A1-EDA1-4EDA-8650-5D93F555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951E-9E44-4044-8331-15F1EB67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C9AA-A372-471B-A764-BAD8D592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7C0F-3932-46C9-AB57-5CCF25BA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3C35-8B64-4DB2-9A49-1112CA76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BCF36-B170-45FC-9D30-873748A6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37F28-64DB-48AF-97B0-37DF406D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6FB0A-6365-4B5B-86CE-CA02A7CD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A54D7-3C4C-4825-B2C9-8BDD8EF6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DC396-C12A-4729-B219-DE8BED97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81E-0C4C-47A6-A3FD-F897D401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66E63-239D-412D-9CC7-AED2E6FF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8484D-2E51-4B8A-97ED-1EF22DF0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2314C-0DCF-444E-B229-0EB6E11F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C52EA-9C64-43E8-9A4F-6B08E6B6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9FC32-D526-4ECA-A504-0EAD0DB8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F9796-432D-4634-B354-07D00657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C0305-22EE-40CA-B924-8169FD1E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0A95F-199F-44E6-822E-EFA0789D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BEA9D-E08D-4AA5-B7C8-66AC8AC1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53C8-0517-41C0-8F06-BFA0BC16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2EF-7586-4583-BBBB-DDCDE8F5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98923-C1CE-40EC-B613-A21184E9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BE5D2-56D1-43B9-91B8-87A1C79D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10D3F-3100-417B-8169-89DDBE55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C64C5-5BF3-40A5-A5EA-C0CE9E76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188CA-710E-4F7F-9E8D-BB9B31B3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74BAF-2063-467C-8266-34A9ED0A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E915A-F914-4F3D-BA06-16E352C0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48391-6D6B-426A-ADDA-DF1BB8B7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0C7AA-049A-47CF-998B-FC4CE88A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2F3-BEC4-44D8-A578-6D499506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D1F-BD0C-4E7E-B63D-9DE7E6FD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C34-35C3-429F-976B-308893AE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6C9-B9CF-4264-96ED-8CD12374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D38-3070-422F-871F-43F1EC5B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E3AA-1AFC-49A6-83A5-D043EDD04C3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929A-A58D-4DBE-BEEF-C1B65CCF66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8768-06A9-46E1-AB72-6D74CF413FF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3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3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3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3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6FE9-C82D-49B9-AD86-36CCAE4704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SAFETY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AIRBAGS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IN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CA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7929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NSTRUCTION OF AIR BAGS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bag are assemblies consisting of the airbag (made of Nylon), inflator modules and sensor housing, electrical connectors (Clock spring), airbag retainer and the cove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or assemb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module activates airbag assembly- electric current is sent to the detonator-ignition of sodium azide pallets-evolves nitrogen 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 bags are designed to inflate in frontal impacts in which the car strikes about 16 km/h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collision senors sents an electric current to ignito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 current heats the filament which ignates the capsule which in turn ignites the gas generating pal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as expands quickly and inflation of air bags there by takesplace,which break through a plastic cover in the  steering whe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aken for all these things about .1se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RIVERS SIDE AIRBA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" name="Picture 4" descr="airbag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66680" y="2590920"/>
            <a:ext cx="6477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247176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08" name="Picture 2" descr="airbag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66680" y="1981080"/>
            <a:ext cx="4200480" cy="2695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30002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10" name="Picture 4" descr="airbag7"/>
          <p:cNvPicPr/>
          <p:nvPr/>
        </p:nvPicPr>
        <p:blipFill>
          <a:blip r:embed="rId2">
            <a:grayscl/>
          </a:blip>
          <a:stretch/>
        </p:blipFill>
        <p:spPr>
          <a:xfrm>
            <a:off x="5638680" y="1981080"/>
            <a:ext cx="3143520" cy="2571840"/>
          </a:xfrm>
          <a:prstGeom prst="rect">
            <a:avLst/>
          </a:prstGeom>
          <a:ln w="0">
            <a:noFill/>
          </a:ln>
        </p:spPr>
      </p:pic>
      <p:pic>
        <p:nvPicPr>
          <p:cNvPr id="211" name="WordArt 6" descr=""/>
          <p:cNvPicPr/>
          <p:nvPr/>
        </p:nvPicPr>
        <p:blipFill>
          <a:blip r:embed="rId3"/>
          <a:stretch/>
        </p:blipFill>
        <p:spPr>
          <a:xfrm>
            <a:off x="5857920" y="4559400"/>
            <a:ext cx="2468520" cy="341280"/>
          </a:xfrm>
          <a:prstGeom prst="rect">
            <a:avLst/>
          </a:prstGeom>
          <a:ln w="0">
            <a:noFill/>
          </a:ln>
        </p:spPr>
      </p:pic>
      <p:pic>
        <p:nvPicPr>
          <p:cNvPr id="212" name="WordArt 7" descr=""/>
          <p:cNvPicPr/>
          <p:nvPr/>
        </p:nvPicPr>
        <p:blipFill>
          <a:blip r:embed="rId4"/>
          <a:stretch/>
        </p:blipFill>
        <p:spPr>
          <a:xfrm>
            <a:off x="1968480" y="4559400"/>
            <a:ext cx="220680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rn types air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2017800"/>
            <a:ext cx="80773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Curtain airba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ed by mercedes and vol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late infront of windows to provide passengers better head and neck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efficient at tipping and side imp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HIC by 8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6104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Head throax bag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veloped by ford and renaul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igh protection to hea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veloped by BMW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orlds first airbag for head pro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air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Smart syste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s weight senso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type occupant in seat.ie.child or adul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Infrared occupa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 the distance of passenger from airba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Capacitive reflective occupant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sens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distance passenger from dash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iminate between human occupant and inanimat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pdate senso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loys seatbelt pretensioners faster to get benefit of airb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entralised electronic control uni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sensor technology through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1   INTROD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2   BASIS OF AIR BA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3   DEVELOPMENTS OF AIR BAG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4   CONSTRUCTION OF AIR BAG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5   WORK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6   MODERN TYP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7   FUTU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8   AIR BAG DEPLOY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9   AIR BAG CHEC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10 DISARMING AIR BA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11 CONCL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r bag de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bag inf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icits contact with airb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ing to rest in seat and deflation of airba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hese take in 30 milli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rbags che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turn key look at the dash to find airbag light for 7-10 sec.&amp;then go 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s occur w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light does not come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if light does not go off after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if light comes during dri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arming air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onnect batt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 30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ve airbag f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op sound insulator pa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onnect the circu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us the bag is disarm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the bag below 130degree cels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airbag"/>
          <p:cNvPicPr/>
          <p:nvPr/>
        </p:nvPicPr>
        <p:blipFill>
          <a:blip r:embed="rId1"/>
          <a:stretch/>
        </p:blipFill>
        <p:spPr>
          <a:xfrm>
            <a:off x="1752480" y="266688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airbag1"/>
          <p:cNvPicPr/>
          <p:nvPr/>
        </p:nvPicPr>
        <p:blipFill>
          <a:blip r:embed="rId2"/>
          <a:stretch/>
        </p:blipFill>
        <p:spPr>
          <a:xfrm>
            <a:off x="4191120" y="266688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airbag2"/>
          <p:cNvPicPr/>
          <p:nvPr/>
        </p:nvPicPr>
        <p:blipFill>
          <a:blip r:embed="rId3"/>
          <a:stretch/>
        </p:blipFill>
        <p:spPr>
          <a:xfrm>
            <a:off x="6553080" y="251460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airbag3"/>
          <p:cNvPicPr/>
          <p:nvPr/>
        </p:nvPicPr>
        <p:blipFill>
          <a:blip r:embed="rId4"/>
          <a:stretch/>
        </p:blipFill>
        <p:spPr>
          <a:xfrm>
            <a:off x="1676520" y="434340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irbag4"/>
          <p:cNvPicPr/>
          <p:nvPr/>
        </p:nvPicPr>
        <p:blipFill>
          <a:blip r:embed="rId5"/>
          <a:stretch/>
        </p:blipFill>
        <p:spPr>
          <a:xfrm>
            <a:off x="4191120" y="4419720"/>
            <a:ext cx="1809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rear_restraint"/>
          <p:cNvPicPr/>
          <p:nvPr/>
        </p:nvPicPr>
        <p:blipFill>
          <a:blip r:embed="rId1"/>
          <a:stretch/>
        </p:blipFill>
        <p:spPr>
          <a:xfrm>
            <a:off x="990720" y="3429000"/>
            <a:ext cx="75438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 bags are of greater importance in todays vehicles siince safety of human life is of prior impor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far safe riding  and for saving  the precious life the safety bags must be implement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hope every automobile manufacturer implements the s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WordArt 2" descr=""/>
          <p:cNvPicPr/>
          <p:nvPr/>
        </p:nvPicPr>
        <p:blipFill>
          <a:blip r:embed="rId1"/>
          <a:stretch/>
        </p:blipFill>
        <p:spPr>
          <a:xfrm>
            <a:off x="-1322280" y="2498760"/>
            <a:ext cx="114840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il recently seat belts provided the sole form of passive restraint in ca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ly talks arose about their safe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bags have been under development for many yea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s reveal that airbags reduce the risk of casualty in a DFC by 3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bags are the subject of serious governments industry research and te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ton’s second law of mo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objects aren’t restrained they will continue moving at the speed of the moving car even if the car is stopped by a colli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airbags need to do is to slow down passengers spe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WordArt 5" descr=""/>
          <p:cNvPicPr/>
          <p:nvPr/>
        </p:nvPicPr>
        <p:blipFill>
          <a:blip r:embed="rId1"/>
          <a:stretch/>
        </p:blipFill>
        <p:spPr>
          <a:xfrm>
            <a:off x="444600" y="596880"/>
            <a:ext cx="72914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LD WAR-2 :saw the first patent on an inflatable crash landing device for airpla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0:first commercial airbags appeared in automob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 since 1988 it became a bin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orts to adapt the airbag was stranded due to prohibitive prices and technical hurd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PARTS OF AN AIRBA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lation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ade up of a thin nylon fabric, which is folded into the steering wheel or dashboard or the seat or do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powdery substance released ( regular cornstarch or talcum powder) is used to keep the bags lubricated while they’re in stor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ENS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9296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evice that tells the bag to infla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works with the control module to                      discriminate between crash and non- crash events.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FLATION SYSTEM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large amts. of NITROGEN 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t Blasts of the nitrogen inflate the air bag from its storage site up to 322Kmp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08:32:07Z</dcterms:created>
  <dc:creator>Mechanical Engineering Project</dc:creator>
  <dc:description/>
  <dc:language>en-US</dc:language>
  <cp:lastModifiedBy>Brigade</cp:lastModifiedBy>
  <dcterms:modified xsi:type="dcterms:W3CDTF">2011-08-09T11:09:22Z</dcterms:modified>
  <cp:revision>0</cp:revision>
  <dc:subject/>
  <dc:title>Mechanical Engineering Project</dc:title>
</cp:coreProperties>
</file>